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076D-803E-4830-8482-AD6D05F7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5855-3EBE-499A-86E2-3568DF28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234-775E-4F09-8ABB-E6569522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FA3-1ED3-4CFA-A3BA-49567003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200A-332A-48DF-B6AB-6CC4D4C8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38F5-879E-4251-8D0A-4C7C8F99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9AC3-8193-478C-8EE3-410EE3C5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B559-A18F-48E8-9D10-B3E4E948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83F2-8E91-4750-8EAE-688C3B66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655F-8E5A-4D87-889D-6F3758EB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B283-52EF-4936-8956-C4954A93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09E-5CBE-48C8-804D-8AFC2A47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2133-262B-4914-9032-E93FC983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09A0-BCED-43C1-9832-A335AB0B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56F3-AD0F-448E-85E6-200FC32B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DFC1-F339-443E-B636-51F17B6B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C77F-01C9-47C3-B3E7-20162CA2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C91-18A1-473B-BE72-1E57E2B9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88E4-EE62-48C7-90E5-DEA62176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0F01-F12E-44D0-B0C7-042BE4A1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689-A3B2-447C-AA49-2A085B2F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221-10D3-4F95-9447-EFA44D7C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CDB2-8816-419D-966D-A5175F27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C13-E75D-4138-9E34-9012307A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0EB1-DA6E-4AC1-A082-6C71D16C84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244C-F58D-414E-A147-09A83097E0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53" name="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192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docs.google.com/drawings/d/1f1s1drjo8qMJ-vWR3BQgsfRbH2DO0E43Xb01eRddWcg/edit?hl=en_GB&amp;authkey=CN_oqbYK&amp;pli=1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voin arviointi erityistilanteessa. Tilannetiedotus Opasnetiss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uni Tuomisto, THL, Kuop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usta ruutu, esityksen loppu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utkimuksen ja päätöksenteon rajapinnan murro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erinteinen ajattelu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siantuntija mallittaa monimutkaisia ilmiöitä omaksi (ja kollegoiden) tiedoksi. Viisastuttuaan hän osaa kirjoittaa yleistajuisia raportteja poliitikoi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siantuntija ei osallistu politiikkaan (IPCC: me annamme tietoa, emme suosituks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Uusi ajattelu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llitus on jaetun ymmärryksen luomista arvioimalla määrällisesti asioita yhdess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liittinen keskustelu on avointa hypoteesien esittämistä siitä, millä toimilla saavutetaan tavoitte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oimiva yhteisö ei tarvitse T-P-rajapinta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onet roolit säilyvät: tutkijan tehtävänä on osata asiat, poliitikon tehtävänä tehdä päätök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eskeisiä periaatteita muutoksen edistämiseks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Heti kaikki tieto tänne meil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ietomonopolit on murrettava, varsinkin päätöksentekoon vaikuttavan tied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Vertaisarviointi tehdään jälkikäteen – jos asia osoittautuu tärkeäks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Yhtä asiaa koskeva tieto pistetään aina yhteen ja samaan paikkaan (tieteen Wikipedi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ieteen menetelmä = avoin kriittinen keskustelu hypoteesien vahvuuksista ja hylkäämisestä pitää ottaa käyttöö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eteessä (milloin sinun oman julkaisusi hypoteeseja on julkisesti hylätty kriittisen keskustelun tuloksena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litiikassa (on tyhmää äänestää faktois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Kaikelle tiedolle yhtenäinen, avoin tietoraken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n example of an open assessmen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ealth impact of radon in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680" y="1413000"/>
            <a:ext cx="9139320" cy="2336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76411E-006 L 0.00035 -0.56868 E">
                                      <p:cBhvr>
                                        <p:cTn id="32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56868 L 0.00434 -1.32377 E">
                                      <p:cBhvr>
                                        <p:cTn id="36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1.32377 L -0.00017 -1.90726 E">
                                      <p:cBhvr>
                                        <p:cTn id="40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1.90726 L -0.00017 -2.57215 E">
                                      <p:cBhvr>
                                        <p:cTn id="44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n example of a variable in a model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n example of a statement and resolution of a discussio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Is Pandemrix a safe vacci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143"/>
                </a:solidFill>
                <a:latin typeface="Arial"/>
              </a:rPr>
              <a:t>Opasnet: verkkotyötila avointen arviointien ja jaetun ymmärryksen luomiseen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-wiki: käyttöliittymä osallistumiseen ja kaikkiin toiminnallisuuksi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eskustelu- ja kommentointisivut: keskustelua varsinaises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-kanta: tietokanta kaikenlaisen taulukkodatan tallentamiseen ja käyttämise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R-tools: tilasto- ja laskentaohjelma R kaikkeen laskentaan ja tulosten kuvaamise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-tiedosto: tiedostonhallintajärjestelmä taustadokumenteille ja muille tiedostoil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7bc143"/>
                </a:solidFill>
                <a:latin typeface="Arial"/>
              </a:rPr>
              <a:t>How Opasnet helps in assessments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1200" y="1484280"/>
            <a:ext cx="66214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https://docs.google.com/drawings/d/1f1s1drjo8qMJ-vWR3BQgsfRbH2DO0E43Xb01eRddWcg/edit?hl=en_GB&amp;authkey=CN_oqbYK&amp;pli=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33520" y="1341360"/>
            <a:ext cx="76579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voimen saatavuuden periaat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eto jostakin ilmiöstä on avoimesti saatavilla jos ja vain j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dunmies voi kymmenessä minuutis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öytä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a vartis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mmärtä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eteellisesti pätevän, ajankohtaisen kuvauksen ilmiön tilasta ja kuvauksen siitä, miten tilanne muuttuisi jos ilmiön jonk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ytekijän vaikut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uttuisi, 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ama tieto on koneluettavassa muodossa standardirajapinnan yli internetissä vapaan käyttöoikeuden piiriss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riskinhallinta: yleiskuv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826920" y="1989000"/>
            <a:ext cx="7632720" cy="4176720"/>
            <a:chOff x="826920" y="1989000"/>
            <a:chExt cx="7632720" cy="4176720"/>
          </a:xfrm>
        </p:grpSpPr>
        <p:sp>
          <p:nvSpPr>
            <p:cNvPr id="96" name=""/>
            <p:cNvSpPr/>
            <p:nvPr/>
          </p:nvSpPr>
          <p:spPr>
            <a:xfrm>
              <a:off x="826920" y="1989000"/>
              <a:ext cx="7632720" cy="417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2484000" y="2205000"/>
              <a:ext cx="5329800" cy="3527640"/>
              <a:chOff x="2484000" y="2205000"/>
              <a:chExt cx="5329800" cy="35276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771280" y="4221000"/>
                <a:ext cx="505440" cy="1440000"/>
                <a:chOff x="2771280" y="4221000"/>
                <a:chExt cx="505440" cy="14400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2835000" y="4221000"/>
                  <a:ext cx="37836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024000" y="459828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2866320" y="5146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024000" y="5146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2771280" y="5661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182040" y="5661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2802960" y="4735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024000" y="4735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7308360" y="3284640"/>
                <a:ext cx="505440" cy="1439640"/>
                <a:chOff x="7308360" y="3284640"/>
                <a:chExt cx="505440" cy="14396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7372080" y="3284640"/>
                  <a:ext cx="378360" cy="376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561080" y="366156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>
                  <a:off x="7403400" y="420948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561080" y="420948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7308360" y="472428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719120" y="472428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>
                  <a:off x="7340040" y="379836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561080" y="379836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484000" y="2637000"/>
                <a:ext cx="505440" cy="1439640"/>
                <a:chOff x="2484000" y="2637000"/>
                <a:chExt cx="505440" cy="14396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547720" y="2637000"/>
                  <a:ext cx="378360" cy="376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736720" y="3013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>
                  <a:off x="2579040" y="356184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736720" y="356184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2484000" y="407664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894760" y="407664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>
                  <a:off x="2515680" y="3150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736720" y="3150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419640" y="2349360"/>
                <a:ext cx="504360" cy="1440000"/>
                <a:chOff x="3419640" y="2349360"/>
                <a:chExt cx="504360" cy="1440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483000" y="234936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672000" y="272664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3513960" y="327456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672000" y="327456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3419640" y="378936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829680" y="378936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3450960" y="286344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672000" y="286344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716000" y="2205000"/>
                <a:ext cx="505440" cy="1440000"/>
                <a:chOff x="4716000" y="2205000"/>
                <a:chExt cx="505440" cy="14400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779720" y="2205000"/>
                  <a:ext cx="37836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968720" y="258228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>
                  <a:off x="4811040" y="3130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968720" y="3130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4716000" y="3645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126760" y="3645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4747680" y="2719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968720" y="2719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796000" y="4292640"/>
                <a:ext cx="504360" cy="1440000"/>
                <a:chOff x="5796000" y="4292640"/>
                <a:chExt cx="504360" cy="14400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859360" y="429264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48360" y="4669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5890320" y="521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48360" y="521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5796000" y="573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206040" y="573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5827320" y="480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048360" y="480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372360" y="2852640"/>
                <a:ext cx="504360" cy="1440000"/>
                <a:chOff x="6372360" y="2852640"/>
                <a:chExt cx="504360" cy="14400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435720" y="285264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624720" y="3229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6466680" y="377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624720" y="377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6372360" y="429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782400" y="429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6403680" y="336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624720" y="336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1" name=""/>
          <p:cNvGrpSpPr/>
          <p:nvPr/>
        </p:nvGrpSpPr>
        <p:grpSpPr>
          <a:xfrm>
            <a:off x="3214800" y="3933720"/>
            <a:ext cx="2220840" cy="1656000"/>
            <a:chOff x="3214800" y="3933720"/>
            <a:chExt cx="2220840" cy="1656000"/>
          </a:xfrm>
        </p:grpSpPr>
        <p:grpSp>
          <p:nvGrpSpPr>
            <p:cNvPr id="162" name=""/>
            <p:cNvGrpSpPr/>
            <p:nvPr/>
          </p:nvGrpSpPr>
          <p:grpSpPr>
            <a:xfrm>
              <a:off x="4284720" y="3933720"/>
              <a:ext cx="1150920" cy="1656000"/>
              <a:chOff x="4284720" y="3933720"/>
              <a:chExt cx="1150920" cy="1656000"/>
            </a:xfrm>
          </p:grpSpPr>
          <p:sp>
            <p:nvSpPr>
              <p:cNvPr id="163" name=""/>
              <p:cNvSpPr/>
              <p:nvPr/>
            </p:nvSpPr>
            <p:spPr>
              <a:xfrm>
                <a:off x="4284720" y="3933720"/>
                <a:ext cx="1150920" cy="165600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643280" y="443700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00720" y="4149720"/>
                <a:ext cx="6476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72000" y="5013360"/>
                <a:ext cx="647640" cy="43164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643280" y="5157720"/>
                <a:ext cx="505080" cy="216000"/>
              </a:xfrm>
              <a:custGeom>
                <a:avLst/>
                <a:gdLst/>
                <a:ahLst/>
                <a:rect l="l" t="t" r="r" b="b"/>
                <a:pathLst>
                  <a:path w="318" h="136">
                    <a:moveTo>
                      <a:pt x="0" y="136"/>
                    </a:moveTo>
                    <a:lnTo>
                      <a:pt x="91" y="0"/>
                    </a:lnTo>
                    <a:lnTo>
                      <a:pt x="136" y="90"/>
                    </a:lnTo>
                    <a:lnTo>
                      <a:pt x="318" y="45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643280" y="458136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643280" y="472428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643280" y="486900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3214800" y="4037040"/>
              <a:ext cx="1012680" cy="150840"/>
            </a:xfrm>
            <a:custGeom>
              <a:avLst/>
              <a:gdLst/>
              <a:ahLst/>
              <a:rect l="l" t="t" r="r" b="b"/>
              <a:pathLst>
                <a:path w="638" h="95">
                  <a:moveTo>
                    <a:pt x="0" y="95"/>
                  </a:moveTo>
                  <a:cubicBezTo>
                    <a:pt x="45" y="80"/>
                    <a:pt x="164" y="6"/>
                    <a:pt x="270" y="3"/>
                  </a:cubicBezTo>
                  <a:cubicBezTo>
                    <a:pt x="376" y="0"/>
                    <a:pt x="561" y="62"/>
                    <a:pt x="638" y="77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032480" y="3680640"/>
            <a:ext cx="1494720" cy="1436040"/>
            <a:chOff x="1032480" y="3680640"/>
            <a:chExt cx="1494720" cy="1436040"/>
          </a:xfrm>
        </p:grpSpPr>
        <p:sp>
          <p:nvSpPr>
            <p:cNvPr id="173" name=""/>
            <p:cNvSpPr/>
            <p:nvPr/>
          </p:nvSpPr>
          <p:spPr>
            <a:xfrm rot="5853000">
              <a:off x="1259280" y="3572640"/>
              <a:ext cx="792000" cy="1152360"/>
            </a:xfrm>
            <a:prstGeom prst="can">
              <a:avLst>
                <a:gd name="adj" fmla="val 25000"/>
              </a:avLst>
            </a:prstGeom>
            <a:solidFill>
              <a:srgbClr val="7bc14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49480" y="4483080"/>
              <a:ext cx="477720" cy="633600"/>
            </a:xfrm>
            <a:custGeom>
              <a:avLst/>
              <a:gdLst/>
              <a:ahLst/>
              <a:rect l="l" t="t" r="r" b="b"/>
              <a:pathLst>
                <a:path w="301" h="399">
                  <a:moveTo>
                    <a:pt x="0" y="0"/>
                  </a:moveTo>
                  <a:cubicBezTo>
                    <a:pt x="19" y="3"/>
                    <a:pt x="40" y="1"/>
                    <a:pt x="56" y="10"/>
                  </a:cubicBezTo>
                  <a:cubicBezTo>
                    <a:pt x="66" y="16"/>
                    <a:pt x="73" y="105"/>
                    <a:pt x="75" y="112"/>
                  </a:cubicBezTo>
                  <a:cubicBezTo>
                    <a:pt x="84" y="147"/>
                    <a:pt x="122" y="148"/>
                    <a:pt x="56" y="130"/>
                  </a:cubicBezTo>
                  <a:cubicBezTo>
                    <a:pt x="50" y="121"/>
                    <a:pt x="33" y="112"/>
                    <a:pt x="38" y="102"/>
                  </a:cubicBezTo>
                  <a:cubicBezTo>
                    <a:pt x="42" y="93"/>
                    <a:pt x="72" y="105"/>
                    <a:pt x="65" y="112"/>
                  </a:cubicBezTo>
                  <a:cubicBezTo>
                    <a:pt x="51" y="126"/>
                    <a:pt x="28" y="124"/>
                    <a:pt x="10" y="130"/>
                  </a:cubicBezTo>
                  <a:cubicBezTo>
                    <a:pt x="1" y="133"/>
                    <a:pt x="38" y="121"/>
                    <a:pt x="38" y="121"/>
                  </a:cubicBezTo>
                  <a:cubicBezTo>
                    <a:pt x="41" y="112"/>
                    <a:pt x="54" y="100"/>
                    <a:pt x="47" y="93"/>
                  </a:cubicBezTo>
                  <a:cubicBezTo>
                    <a:pt x="40" y="86"/>
                    <a:pt x="21" y="92"/>
                    <a:pt x="19" y="102"/>
                  </a:cubicBezTo>
                  <a:cubicBezTo>
                    <a:pt x="16" y="113"/>
                    <a:pt x="28" y="126"/>
                    <a:pt x="38" y="130"/>
                  </a:cubicBezTo>
                  <a:cubicBezTo>
                    <a:pt x="61" y="139"/>
                    <a:pt x="87" y="137"/>
                    <a:pt x="112" y="140"/>
                  </a:cubicBezTo>
                  <a:cubicBezTo>
                    <a:pt x="132" y="201"/>
                    <a:pt x="78" y="174"/>
                    <a:pt x="38" y="167"/>
                  </a:cubicBezTo>
                  <a:cubicBezTo>
                    <a:pt x="16" y="136"/>
                    <a:pt x="6" y="140"/>
                    <a:pt x="47" y="130"/>
                  </a:cubicBezTo>
                  <a:cubicBezTo>
                    <a:pt x="62" y="126"/>
                    <a:pt x="78" y="124"/>
                    <a:pt x="93" y="121"/>
                  </a:cubicBezTo>
                  <a:cubicBezTo>
                    <a:pt x="87" y="112"/>
                    <a:pt x="70" y="103"/>
                    <a:pt x="75" y="93"/>
                  </a:cubicBezTo>
                  <a:cubicBezTo>
                    <a:pt x="80" y="84"/>
                    <a:pt x="97" y="94"/>
                    <a:pt x="103" y="102"/>
                  </a:cubicBezTo>
                  <a:cubicBezTo>
                    <a:pt x="111" y="112"/>
                    <a:pt x="102" y="132"/>
                    <a:pt x="112" y="140"/>
                  </a:cubicBezTo>
                  <a:cubicBezTo>
                    <a:pt x="124" y="150"/>
                    <a:pt x="143" y="146"/>
                    <a:pt x="158" y="149"/>
                  </a:cubicBezTo>
                  <a:cubicBezTo>
                    <a:pt x="149" y="155"/>
                    <a:pt x="140" y="162"/>
                    <a:pt x="130" y="167"/>
                  </a:cubicBezTo>
                  <a:cubicBezTo>
                    <a:pt x="121" y="171"/>
                    <a:pt x="105" y="168"/>
                    <a:pt x="103" y="177"/>
                  </a:cubicBezTo>
                  <a:cubicBezTo>
                    <a:pt x="97" y="204"/>
                    <a:pt x="137" y="210"/>
                    <a:pt x="149" y="214"/>
                  </a:cubicBezTo>
                  <a:cubicBezTo>
                    <a:pt x="159" y="244"/>
                    <a:pt x="148" y="283"/>
                    <a:pt x="168" y="307"/>
                  </a:cubicBezTo>
                  <a:cubicBezTo>
                    <a:pt x="176" y="317"/>
                    <a:pt x="193" y="301"/>
                    <a:pt x="205" y="298"/>
                  </a:cubicBezTo>
                  <a:cubicBezTo>
                    <a:pt x="161" y="268"/>
                    <a:pt x="165" y="235"/>
                    <a:pt x="149" y="186"/>
                  </a:cubicBezTo>
                  <a:cubicBezTo>
                    <a:pt x="152" y="214"/>
                    <a:pt x="148" y="244"/>
                    <a:pt x="158" y="270"/>
                  </a:cubicBezTo>
                  <a:cubicBezTo>
                    <a:pt x="162" y="279"/>
                    <a:pt x="179" y="272"/>
                    <a:pt x="186" y="279"/>
                  </a:cubicBezTo>
                  <a:cubicBezTo>
                    <a:pt x="193" y="286"/>
                    <a:pt x="186" y="303"/>
                    <a:pt x="195" y="307"/>
                  </a:cubicBezTo>
                  <a:cubicBezTo>
                    <a:pt x="221" y="317"/>
                    <a:pt x="251" y="313"/>
                    <a:pt x="279" y="316"/>
                  </a:cubicBezTo>
                  <a:cubicBezTo>
                    <a:pt x="290" y="372"/>
                    <a:pt x="282" y="348"/>
                    <a:pt x="298" y="390"/>
                  </a:cubicBezTo>
                  <a:cubicBezTo>
                    <a:pt x="301" y="399"/>
                    <a:pt x="295" y="370"/>
                    <a:pt x="288" y="363"/>
                  </a:cubicBezTo>
                  <a:cubicBezTo>
                    <a:pt x="272" y="347"/>
                    <a:pt x="233" y="325"/>
                    <a:pt x="233" y="325"/>
                  </a:cubicBezTo>
                  <a:cubicBezTo>
                    <a:pt x="222" y="295"/>
                    <a:pt x="186" y="242"/>
                    <a:pt x="186" y="242"/>
                  </a:cubicBezTo>
                  <a:cubicBezTo>
                    <a:pt x="174" y="204"/>
                    <a:pt x="159" y="189"/>
                    <a:pt x="121" y="177"/>
                  </a:cubicBezTo>
                  <a:cubicBezTo>
                    <a:pt x="198" y="150"/>
                    <a:pt x="186" y="215"/>
                    <a:pt x="205" y="270"/>
                  </a:cubicBezTo>
                  <a:cubicBezTo>
                    <a:pt x="199" y="279"/>
                    <a:pt x="196" y="303"/>
                    <a:pt x="186" y="298"/>
                  </a:cubicBezTo>
                  <a:cubicBezTo>
                    <a:pt x="166" y="288"/>
                    <a:pt x="149" y="242"/>
                    <a:pt x="149" y="242"/>
                  </a:cubicBezTo>
                  <a:cubicBezTo>
                    <a:pt x="134" y="179"/>
                    <a:pt x="102" y="171"/>
                    <a:pt x="47" y="158"/>
                  </a:cubicBezTo>
                  <a:cubicBezTo>
                    <a:pt x="56" y="155"/>
                    <a:pt x="65" y="149"/>
                    <a:pt x="75" y="149"/>
                  </a:cubicBezTo>
                  <a:cubicBezTo>
                    <a:pt x="130" y="149"/>
                    <a:pt x="93" y="204"/>
                    <a:pt x="84" y="233"/>
                  </a:cubicBezTo>
                  <a:cubicBezTo>
                    <a:pt x="121" y="257"/>
                    <a:pt x="135" y="245"/>
                    <a:pt x="149" y="288"/>
                  </a:cubicBezTo>
                  <a:cubicBezTo>
                    <a:pt x="137" y="325"/>
                    <a:pt x="121" y="344"/>
                    <a:pt x="93" y="372"/>
                  </a:cubicBezTo>
                  <a:cubicBezTo>
                    <a:pt x="102" y="375"/>
                    <a:pt x="112" y="385"/>
                    <a:pt x="121" y="381"/>
                  </a:cubicBezTo>
                  <a:cubicBezTo>
                    <a:pt x="146" y="371"/>
                    <a:pt x="136" y="341"/>
                    <a:pt x="149" y="325"/>
                  </a:cubicBezTo>
                  <a:cubicBezTo>
                    <a:pt x="156" y="316"/>
                    <a:pt x="168" y="313"/>
                    <a:pt x="177" y="307"/>
                  </a:cubicBezTo>
                  <a:cubicBezTo>
                    <a:pt x="168" y="301"/>
                    <a:pt x="157" y="280"/>
                    <a:pt x="149" y="288"/>
                  </a:cubicBezTo>
                  <a:cubicBezTo>
                    <a:pt x="140" y="297"/>
                    <a:pt x="147" y="319"/>
                    <a:pt x="158" y="325"/>
                  </a:cubicBezTo>
                  <a:cubicBezTo>
                    <a:pt x="166" y="329"/>
                    <a:pt x="160" y="303"/>
                    <a:pt x="168" y="298"/>
                  </a:cubicBezTo>
                  <a:cubicBezTo>
                    <a:pt x="184" y="289"/>
                    <a:pt x="205" y="291"/>
                    <a:pt x="223" y="288"/>
                  </a:cubicBezTo>
                  <a:cubicBezTo>
                    <a:pt x="235" y="254"/>
                    <a:pt x="224" y="264"/>
                    <a:pt x="251" y="251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908000" y="3052800"/>
            <a:ext cx="865440" cy="1298520"/>
            <a:chOff x="1908000" y="3052800"/>
            <a:chExt cx="865440" cy="1298520"/>
          </a:xfrm>
        </p:grpSpPr>
        <p:sp>
          <p:nvSpPr>
            <p:cNvPr id="176" name=""/>
            <p:cNvSpPr/>
            <p:nvPr/>
          </p:nvSpPr>
          <p:spPr>
            <a:xfrm>
              <a:off x="2268360" y="4299120"/>
              <a:ext cx="505080" cy="52200"/>
            </a:xfrm>
            <a:custGeom>
              <a:avLst/>
              <a:gdLst/>
              <a:ahLst/>
              <a:rect l="l" t="t" r="r" b="b"/>
              <a:pathLst>
                <a:path w="318" h="33">
                  <a:moveTo>
                    <a:pt x="0" y="1"/>
                  </a:moveTo>
                  <a:cubicBezTo>
                    <a:pt x="25" y="2"/>
                    <a:pt x="97" y="0"/>
                    <a:pt x="150" y="5"/>
                  </a:cubicBezTo>
                  <a:cubicBezTo>
                    <a:pt x="203" y="10"/>
                    <a:pt x="283" y="27"/>
                    <a:pt x="318" y="33"/>
                  </a:cubicBezTo>
                </a:path>
              </a:pathLst>
            </a:custGeom>
            <a:noFill/>
            <a:ln w="63360">
              <a:solidFill>
                <a:srgbClr val="ff99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08000" y="3052800"/>
              <a:ext cx="584280" cy="598320"/>
            </a:xfrm>
            <a:custGeom>
              <a:avLst/>
              <a:gdLst/>
              <a:ahLst/>
              <a:rect l="l" t="t" r="r" b="b"/>
              <a:pathLst>
                <a:path w="368" h="377">
                  <a:moveTo>
                    <a:pt x="0" y="377"/>
                  </a:moveTo>
                  <a:cubicBezTo>
                    <a:pt x="24" y="337"/>
                    <a:pt x="84" y="202"/>
                    <a:pt x="145" y="139"/>
                  </a:cubicBezTo>
                  <a:cubicBezTo>
                    <a:pt x="206" y="76"/>
                    <a:pt x="322" y="29"/>
                    <a:pt x="368" y="0"/>
                  </a:cubicBezTo>
                </a:path>
              </a:pathLst>
            </a:custGeom>
            <a:noFill/>
            <a:ln w="63360">
              <a:solidFill>
                <a:srgbClr val="ff99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519200" y="2227320"/>
            <a:ext cx="2543040" cy="1400040"/>
            <a:chOff x="1519200" y="2227320"/>
            <a:chExt cx="2543040" cy="1400040"/>
          </a:xfrm>
        </p:grpSpPr>
        <p:sp>
          <p:nvSpPr>
            <p:cNvPr id="179" name=""/>
            <p:cNvSpPr/>
            <p:nvPr/>
          </p:nvSpPr>
          <p:spPr>
            <a:xfrm>
              <a:off x="3433680" y="2227320"/>
              <a:ext cx="471600" cy="304920"/>
            </a:xfrm>
            <a:custGeom>
              <a:avLst/>
              <a:gdLst/>
              <a:ahLst/>
              <a:rect l="l" t="t" r="r" b="b"/>
              <a:pathLst>
                <a:path w="998" h="518">
                  <a:moveTo>
                    <a:pt x="0" y="518"/>
                  </a:moveTo>
                  <a:cubicBezTo>
                    <a:pt x="11" y="270"/>
                    <a:pt x="160" y="159"/>
                    <a:pt x="281" y="84"/>
                  </a:cubicBezTo>
                  <a:cubicBezTo>
                    <a:pt x="402" y="9"/>
                    <a:pt x="607" y="0"/>
                    <a:pt x="726" y="65"/>
                  </a:cubicBezTo>
                  <a:cubicBezTo>
                    <a:pt x="845" y="130"/>
                    <a:pt x="977" y="223"/>
                    <a:pt x="998" y="473"/>
                  </a:cubicBezTo>
                  <a:cubicBezTo>
                    <a:pt x="606" y="493"/>
                    <a:pt x="271" y="502"/>
                    <a:pt x="0" y="518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92560" y="3073320"/>
              <a:ext cx="272880" cy="316080"/>
            </a:xfrm>
            <a:custGeom>
              <a:avLst/>
              <a:gdLst/>
              <a:ahLst/>
              <a:rect l="l" t="t" r="r" b="b"/>
              <a:pathLst>
                <a:path w="3310" h="3577">
                  <a:moveTo>
                    <a:pt x="3300" y="799"/>
                  </a:moveTo>
                  <a:cubicBezTo>
                    <a:pt x="3287" y="932"/>
                    <a:pt x="3265" y="1058"/>
                    <a:pt x="3189" y="1171"/>
                  </a:cubicBezTo>
                  <a:cubicBezTo>
                    <a:pt x="3166" y="1243"/>
                    <a:pt x="3156" y="1330"/>
                    <a:pt x="3115" y="1394"/>
                  </a:cubicBezTo>
                  <a:cubicBezTo>
                    <a:pt x="3096" y="1466"/>
                    <a:pt x="3059" y="1533"/>
                    <a:pt x="3022" y="1598"/>
                  </a:cubicBezTo>
                  <a:cubicBezTo>
                    <a:pt x="2998" y="1641"/>
                    <a:pt x="2984" y="1686"/>
                    <a:pt x="2957" y="1728"/>
                  </a:cubicBezTo>
                  <a:cubicBezTo>
                    <a:pt x="2954" y="1740"/>
                    <a:pt x="2952" y="1753"/>
                    <a:pt x="2947" y="1765"/>
                  </a:cubicBezTo>
                  <a:cubicBezTo>
                    <a:pt x="2942" y="1778"/>
                    <a:pt x="2933" y="1789"/>
                    <a:pt x="2929" y="1802"/>
                  </a:cubicBezTo>
                  <a:cubicBezTo>
                    <a:pt x="2904" y="1880"/>
                    <a:pt x="2934" y="1821"/>
                    <a:pt x="2910" y="1877"/>
                  </a:cubicBezTo>
                  <a:cubicBezTo>
                    <a:pt x="2896" y="1910"/>
                    <a:pt x="2884" y="1924"/>
                    <a:pt x="2873" y="1960"/>
                  </a:cubicBezTo>
                  <a:cubicBezTo>
                    <a:pt x="2852" y="2030"/>
                    <a:pt x="2839" y="2102"/>
                    <a:pt x="2799" y="2165"/>
                  </a:cubicBezTo>
                  <a:cubicBezTo>
                    <a:pt x="2783" y="2239"/>
                    <a:pt x="2736" y="2304"/>
                    <a:pt x="2697" y="2369"/>
                  </a:cubicBezTo>
                  <a:cubicBezTo>
                    <a:pt x="2664" y="2425"/>
                    <a:pt x="2645" y="2495"/>
                    <a:pt x="2604" y="2546"/>
                  </a:cubicBezTo>
                  <a:cubicBezTo>
                    <a:pt x="2588" y="2566"/>
                    <a:pt x="2563" y="2579"/>
                    <a:pt x="2548" y="2601"/>
                  </a:cubicBezTo>
                  <a:cubicBezTo>
                    <a:pt x="2542" y="2610"/>
                    <a:pt x="2535" y="2620"/>
                    <a:pt x="2529" y="2629"/>
                  </a:cubicBezTo>
                  <a:cubicBezTo>
                    <a:pt x="2507" y="2698"/>
                    <a:pt x="2470" y="2742"/>
                    <a:pt x="2427" y="2797"/>
                  </a:cubicBezTo>
                  <a:cubicBezTo>
                    <a:pt x="2361" y="2881"/>
                    <a:pt x="2325" y="2978"/>
                    <a:pt x="2232" y="3038"/>
                  </a:cubicBezTo>
                  <a:cubicBezTo>
                    <a:pt x="2205" y="3091"/>
                    <a:pt x="2168" y="3100"/>
                    <a:pt x="2130" y="3150"/>
                  </a:cubicBezTo>
                  <a:cubicBezTo>
                    <a:pt x="2102" y="3187"/>
                    <a:pt x="2088" y="3200"/>
                    <a:pt x="2046" y="3215"/>
                  </a:cubicBezTo>
                  <a:cubicBezTo>
                    <a:pt x="1984" y="3307"/>
                    <a:pt x="1912" y="3371"/>
                    <a:pt x="1823" y="3438"/>
                  </a:cubicBezTo>
                  <a:cubicBezTo>
                    <a:pt x="1814" y="3444"/>
                    <a:pt x="1813" y="3458"/>
                    <a:pt x="1805" y="3465"/>
                  </a:cubicBezTo>
                  <a:cubicBezTo>
                    <a:pt x="1805" y="3465"/>
                    <a:pt x="1721" y="3521"/>
                    <a:pt x="1712" y="3530"/>
                  </a:cubicBezTo>
                  <a:cubicBezTo>
                    <a:pt x="1703" y="3539"/>
                    <a:pt x="1696" y="3552"/>
                    <a:pt x="1684" y="3558"/>
                  </a:cubicBezTo>
                  <a:cubicBezTo>
                    <a:pt x="1667" y="3568"/>
                    <a:pt x="1628" y="3577"/>
                    <a:pt x="1628" y="3577"/>
                  </a:cubicBezTo>
                  <a:cubicBezTo>
                    <a:pt x="1594" y="3574"/>
                    <a:pt x="1560" y="3574"/>
                    <a:pt x="1526" y="3568"/>
                  </a:cubicBezTo>
                  <a:cubicBezTo>
                    <a:pt x="1501" y="3564"/>
                    <a:pt x="1462" y="3542"/>
                    <a:pt x="1433" y="3540"/>
                  </a:cubicBezTo>
                  <a:cubicBezTo>
                    <a:pt x="1337" y="3534"/>
                    <a:pt x="1241" y="3533"/>
                    <a:pt x="1145" y="3530"/>
                  </a:cubicBezTo>
                  <a:cubicBezTo>
                    <a:pt x="1126" y="3524"/>
                    <a:pt x="1108" y="3518"/>
                    <a:pt x="1089" y="3512"/>
                  </a:cubicBezTo>
                  <a:cubicBezTo>
                    <a:pt x="1080" y="3509"/>
                    <a:pt x="1061" y="3503"/>
                    <a:pt x="1061" y="3503"/>
                  </a:cubicBezTo>
                  <a:cubicBezTo>
                    <a:pt x="1033" y="3483"/>
                    <a:pt x="1007" y="3481"/>
                    <a:pt x="978" y="3465"/>
                  </a:cubicBezTo>
                  <a:cubicBezTo>
                    <a:pt x="949" y="3449"/>
                    <a:pt x="922" y="3428"/>
                    <a:pt x="894" y="3410"/>
                  </a:cubicBezTo>
                  <a:cubicBezTo>
                    <a:pt x="882" y="3403"/>
                    <a:pt x="869" y="3398"/>
                    <a:pt x="857" y="3391"/>
                  </a:cubicBezTo>
                  <a:cubicBezTo>
                    <a:pt x="838" y="3379"/>
                    <a:pt x="801" y="3354"/>
                    <a:pt x="801" y="3354"/>
                  </a:cubicBezTo>
                  <a:cubicBezTo>
                    <a:pt x="773" y="3311"/>
                    <a:pt x="739" y="3281"/>
                    <a:pt x="718" y="3233"/>
                  </a:cubicBezTo>
                  <a:cubicBezTo>
                    <a:pt x="706" y="3206"/>
                    <a:pt x="701" y="3165"/>
                    <a:pt x="671" y="3150"/>
                  </a:cubicBezTo>
                  <a:cubicBezTo>
                    <a:pt x="605" y="3116"/>
                    <a:pt x="547" y="3081"/>
                    <a:pt x="504" y="3020"/>
                  </a:cubicBezTo>
                  <a:cubicBezTo>
                    <a:pt x="490" y="2947"/>
                    <a:pt x="502" y="2986"/>
                    <a:pt x="458" y="2899"/>
                  </a:cubicBezTo>
                  <a:cubicBezTo>
                    <a:pt x="452" y="2887"/>
                    <a:pt x="439" y="2862"/>
                    <a:pt x="439" y="2862"/>
                  </a:cubicBezTo>
                  <a:cubicBezTo>
                    <a:pt x="428" y="2815"/>
                    <a:pt x="415" y="2769"/>
                    <a:pt x="402" y="2722"/>
                  </a:cubicBezTo>
                  <a:cubicBezTo>
                    <a:pt x="395" y="2697"/>
                    <a:pt x="383" y="2648"/>
                    <a:pt x="383" y="2648"/>
                  </a:cubicBezTo>
                  <a:cubicBezTo>
                    <a:pt x="384" y="2584"/>
                    <a:pt x="318" y="2120"/>
                    <a:pt x="439" y="1942"/>
                  </a:cubicBezTo>
                  <a:cubicBezTo>
                    <a:pt x="445" y="1923"/>
                    <a:pt x="447" y="1902"/>
                    <a:pt x="458" y="1886"/>
                  </a:cubicBezTo>
                  <a:cubicBezTo>
                    <a:pt x="470" y="1867"/>
                    <a:pt x="495" y="1830"/>
                    <a:pt x="495" y="1830"/>
                  </a:cubicBezTo>
                  <a:cubicBezTo>
                    <a:pt x="506" y="1775"/>
                    <a:pt x="539" y="1713"/>
                    <a:pt x="578" y="1672"/>
                  </a:cubicBezTo>
                  <a:cubicBezTo>
                    <a:pt x="589" y="1641"/>
                    <a:pt x="597" y="1617"/>
                    <a:pt x="616" y="1589"/>
                  </a:cubicBezTo>
                  <a:cubicBezTo>
                    <a:pt x="638" y="1520"/>
                    <a:pt x="620" y="1547"/>
                    <a:pt x="662" y="1505"/>
                  </a:cubicBezTo>
                  <a:cubicBezTo>
                    <a:pt x="678" y="1456"/>
                    <a:pt x="666" y="1485"/>
                    <a:pt x="708" y="1422"/>
                  </a:cubicBezTo>
                  <a:cubicBezTo>
                    <a:pt x="721" y="1403"/>
                    <a:pt x="764" y="1384"/>
                    <a:pt x="764" y="1384"/>
                  </a:cubicBezTo>
                  <a:cubicBezTo>
                    <a:pt x="786" y="1353"/>
                    <a:pt x="816" y="1340"/>
                    <a:pt x="839" y="1310"/>
                  </a:cubicBezTo>
                  <a:cubicBezTo>
                    <a:pt x="853" y="1292"/>
                    <a:pt x="864" y="1273"/>
                    <a:pt x="876" y="1254"/>
                  </a:cubicBezTo>
                  <a:cubicBezTo>
                    <a:pt x="882" y="1245"/>
                    <a:pt x="894" y="1226"/>
                    <a:pt x="894" y="1226"/>
                  </a:cubicBezTo>
                  <a:cubicBezTo>
                    <a:pt x="775" y="1187"/>
                    <a:pt x="787" y="1198"/>
                    <a:pt x="616" y="1189"/>
                  </a:cubicBezTo>
                  <a:cubicBezTo>
                    <a:pt x="560" y="1171"/>
                    <a:pt x="606" y="1161"/>
                    <a:pt x="551" y="1143"/>
                  </a:cubicBezTo>
                  <a:cubicBezTo>
                    <a:pt x="499" y="1108"/>
                    <a:pt x="436" y="1103"/>
                    <a:pt x="383" y="1069"/>
                  </a:cubicBezTo>
                  <a:cubicBezTo>
                    <a:pt x="340" y="1002"/>
                    <a:pt x="397" y="1076"/>
                    <a:pt x="328" y="1031"/>
                  </a:cubicBezTo>
                  <a:cubicBezTo>
                    <a:pt x="319" y="1025"/>
                    <a:pt x="316" y="1012"/>
                    <a:pt x="309" y="1004"/>
                  </a:cubicBezTo>
                  <a:cubicBezTo>
                    <a:pt x="275" y="966"/>
                    <a:pt x="222" y="902"/>
                    <a:pt x="179" y="873"/>
                  </a:cubicBezTo>
                  <a:cubicBezTo>
                    <a:pt x="128" y="800"/>
                    <a:pt x="187" y="890"/>
                    <a:pt x="151" y="818"/>
                  </a:cubicBezTo>
                  <a:cubicBezTo>
                    <a:pt x="133" y="783"/>
                    <a:pt x="130" y="794"/>
                    <a:pt x="105" y="762"/>
                  </a:cubicBezTo>
                  <a:cubicBezTo>
                    <a:pt x="91" y="744"/>
                    <a:pt x="67" y="706"/>
                    <a:pt x="67" y="706"/>
                  </a:cubicBezTo>
                  <a:cubicBezTo>
                    <a:pt x="52" y="660"/>
                    <a:pt x="58" y="617"/>
                    <a:pt x="30" y="576"/>
                  </a:cubicBezTo>
                  <a:cubicBezTo>
                    <a:pt x="0" y="484"/>
                    <a:pt x="29" y="382"/>
                    <a:pt x="95" y="316"/>
                  </a:cubicBezTo>
                  <a:cubicBezTo>
                    <a:pt x="114" y="263"/>
                    <a:pt x="135" y="215"/>
                    <a:pt x="197" y="195"/>
                  </a:cubicBezTo>
                  <a:cubicBezTo>
                    <a:pt x="216" y="189"/>
                    <a:pt x="253" y="177"/>
                    <a:pt x="253" y="177"/>
                  </a:cubicBezTo>
                  <a:cubicBezTo>
                    <a:pt x="365" y="182"/>
                    <a:pt x="461" y="188"/>
                    <a:pt x="569" y="205"/>
                  </a:cubicBezTo>
                  <a:cubicBezTo>
                    <a:pt x="578" y="208"/>
                    <a:pt x="587" y="212"/>
                    <a:pt x="597" y="214"/>
                  </a:cubicBezTo>
                  <a:cubicBezTo>
                    <a:pt x="615" y="218"/>
                    <a:pt x="635" y="218"/>
                    <a:pt x="653" y="223"/>
                  </a:cubicBezTo>
                  <a:cubicBezTo>
                    <a:pt x="696" y="236"/>
                    <a:pt x="738" y="262"/>
                    <a:pt x="783" y="270"/>
                  </a:cubicBezTo>
                  <a:cubicBezTo>
                    <a:pt x="857" y="283"/>
                    <a:pt x="1011" y="286"/>
                    <a:pt x="1061" y="288"/>
                  </a:cubicBezTo>
                  <a:cubicBezTo>
                    <a:pt x="1093" y="312"/>
                    <a:pt x="1122" y="322"/>
                    <a:pt x="1154" y="344"/>
                  </a:cubicBezTo>
                  <a:cubicBezTo>
                    <a:pt x="1186" y="391"/>
                    <a:pt x="1163" y="365"/>
                    <a:pt x="1229" y="409"/>
                  </a:cubicBezTo>
                  <a:cubicBezTo>
                    <a:pt x="1238" y="415"/>
                    <a:pt x="1257" y="428"/>
                    <a:pt x="1257" y="428"/>
                  </a:cubicBezTo>
                  <a:cubicBezTo>
                    <a:pt x="1303" y="425"/>
                    <a:pt x="1350" y="422"/>
                    <a:pt x="1396" y="418"/>
                  </a:cubicBezTo>
                  <a:cubicBezTo>
                    <a:pt x="1418" y="416"/>
                    <a:pt x="1444" y="422"/>
                    <a:pt x="1461" y="409"/>
                  </a:cubicBezTo>
                  <a:cubicBezTo>
                    <a:pt x="1477" y="397"/>
                    <a:pt x="1474" y="372"/>
                    <a:pt x="1480" y="353"/>
                  </a:cubicBezTo>
                  <a:cubicBezTo>
                    <a:pt x="1495" y="308"/>
                    <a:pt x="1563" y="227"/>
                    <a:pt x="1591" y="186"/>
                  </a:cubicBezTo>
                  <a:cubicBezTo>
                    <a:pt x="1610" y="129"/>
                    <a:pt x="1622" y="43"/>
                    <a:pt x="1665" y="0"/>
                  </a:cubicBezTo>
                  <a:lnTo>
                    <a:pt x="3310" y="781"/>
                  </a:lnTo>
                  <a:cubicBezTo>
                    <a:pt x="3310" y="781"/>
                    <a:pt x="3300" y="799"/>
                    <a:pt x="3300" y="799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780000" y="3029040"/>
              <a:ext cx="282240" cy="341280"/>
            </a:xfrm>
            <a:custGeom>
              <a:avLst/>
              <a:gdLst/>
              <a:ahLst/>
              <a:rect l="l" t="t" r="r" b="b"/>
              <a:pathLst>
                <a:path w="3310" h="3577">
                  <a:moveTo>
                    <a:pt x="3300" y="799"/>
                  </a:moveTo>
                  <a:cubicBezTo>
                    <a:pt x="3287" y="932"/>
                    <a:pt x="3265" y="1058"/>
                    <a:pt x="3189" y="1171"/>
                  </a:cubicBezTo>
                  <a:cubicBezTo>
                    <a:pt x="3166" y="1243"/>
                    <a:pt x="3156" y="1330"/>
                    <a:pt x="3115" y="1394"/>
                  </a:cubicBezTo>
                  <a:cubicBezTo>
                    <a:pt x="3096" y="1466"/>
                    <a:pt x="3059" y="1533"/>
                    <a:pt x="3022" y="1598"/>
                  </a:cubicBezTo>
                  <a:cubicBezTo>
                    <a:pt x="2998" y="1641"/>
                    <a:pt x="2984" y="1686"/>
                    <a:pt x="2957" y="1728"/>
                  </a:cubicBezTo>
                  <a:cubicBezTo>
                    <a:pt x="2954" y="1740"/>
                    <a:pt x="2952" y="1753"/>
                    <a:pt x="2947" y="1765"/>
                  </a:cubicBezTo>
                  <a:cubicBezTo>
                    <a:pt x="2942" y="1778"/>
                    <a:pt x="2933" y="1789"/>
                    <a:pt x="2929" y="1802"/>
                  </a:cubicBezTo>
                  <a:cubicBezTo>
                    <a:pt x="2904" y="1880"/>
                    <a:pt x="2934" y="1821"/>
                    <a:pt x="2910" y="1877"/>
                  </a:cubicBezTo>
                  <a:cubicBezTo>
                    <a:pt x="2896" y="1910"/>
                    <a:pt x="2884" y="1924"/>
                    <a:pt x="2873" y="1960"/>
                  </a:cubicBezTo>
                  <a:cubicBezTo>
                    <a:pt x="2852" y="2030"/>
                    <a:pt x="2839" y="2102"/>
                    <a:pt x="2799" y="2165"/>
                  </a:cubicBezTo>
                  <a:cubicBezTo>
                    <a:pt x="2783" y="2239"/>
                    <a:pt x="2736" y="2304"/>
                    <a:pt x="2697" y="2369"/>
                  </a:cubicBezTo>
                  <a:cubicBezTo>
                    <a:pt x="2664" y="2425"/>
                    <a:pt x="2645" y="2495"/>
                    <a:pt x="2604" y="2546"/>
                  </a:cubicBezTo>
                  <a:cubicBezTo>
                    <a:pt x="2588" y="2566"/>
                    <a:pt x="2563" y="2579"/>
                    <a:pt x="2548" y="2601"/>
                  </a:cubicBezTo>
                  <a:cubicBezTo>
                    <a:pt x="2542" y="2610"/>
                    <a:pt x="2535" y="2620"/>
                    <a:pt x="2529" y="2629"/>
                  </a:cubicBezTo>
                  <a:cubicBezTo>
                    <a:pt x="2507" y="2698"/>
                    <a:pt x="2470" y="2742"/>
                    <a:pt x="2427" y="2797"/>
                  </a:cubicBezTo>
                  <a:cubicBezTo>
                    <a:pt x="2361" y="2881"/>
                    <a:pt x="2325" y="2978"/>
                    <a:pt x="2232" y="3038"/>
                  </a:cubicBezTo>
                  <a:cubicBezTo>
                    <a:pt x="2205" y="3091"/>
                    <a:pt x="2168" y="3100"/>
                    <a:pt x="2130" y="3150"/>
                  </a:cubicBezTo>
                  <a:cubicBezTo>
                    <a:pt x="2102" y="3187"/>
                    <a:pt x="2088" y="3200"/>
                    <a:pt x="2046" y="3215"/>
                  </a:cubicBezTo>
                  <a:cubicBezTo>
                    <a:pt x="1984" y="3307"/>
                    <a:pt x="1912" y="3371"/>
                    <a:pt x="1823" y="3438"/>
                  </a:cubicBezTo>
                  <a:cubicBezTo>
                    <a:pt x="1814" y="3444"/>
                    <a:pt x="1813" y="3458"/>
                    <a:pt x="1805" y="3465"/>
                  </a:cubicBezTo>
                  <a:cubicBezTo>
                    <a:pt x="1805" y="3465"/>
                    <a:pt x="1721" y="3521"/>
                    <a:pt x="1712" y="3530"/>
                  </a:cubicBezTo>
                  <a:cubicBezTo>
                    <a:pt x="1703" y="3539"/>
                    <a:pt x="1696" y="3552"/>
                    <a:pt x="1684" y="3558"/>
                  </a:cubicBezTo>
                  <a:cubicBezTo>
                    <a:pt x="1667" y="3568"/>
                    <a:pt x="1628" y="3577"/>
                    <a:pt x="1628" y="3577"/>
                  </a:cubicBezTo>
                  <a:cubicBezTo>
                    <a:pt x="1594" y="3574"/>
                    <a:pt x="1560" y="3574"/>
                    <a:pt x="1526" y="3568"/>
                  </a:cubicBezTo>
                  <a:cubicBezTo>
                    <a:pt x="1501" y="3564"/>
                    <a:pt x="1462" y="3542"/>
                    <a:pt x="1433" y="3540"/>
                  </a:cubicBezTo>
                  <a:cubicBezTo>
                    <a:pt x="1337" y="3534"/>
                    <a:pt x="1241" y="3533"/>
                    <a:pt x="1145" y="3530"/>
                  </a:cubicBezTo>
                  <a:cubicBezTo>
                    <a:pt x="1126" y="3524"/>
                    <a:pt x="1108" y="3518"/>
                    <a:pt x="1089" y="3512"/>
                  </a:cubicBezTo>
                  <a:cubicBezTo>
                    <a:pt x="1080" y="3509"/>
                    <a:pt x="1061" y="3503"/>
                    <a:pt x="1061" y="3503"/>
                  </a:cubicBezTo>
                  <a:cubicBezTo>
                    <a:pt x="1033" y="3483"/>
                    <a:pt x="1007" y="3481"/>
                    <a:pt x="978" y="3465"/>
                  </a:cubicBezTo>
                  <a:cubicBezTo>
                    <a:pt x="949" y="3449"/>
                    <a:pt x="922" y="3428"/>
                    <a:pt x="894" y="3410"/>
                  </a:cubicBezTo>
                  <a:cubicBezTo>
                    <a:pt x="882" y="3403"/>
                    <a:pt x="869" y="3398"/>
                    <a:pt x="857" y="3391"/>
                  </a:cubicBezTo>
                  <a:cubicBezTo>
                    <a:pt x="838" y="3379"/>
                    <a:pt x="801" y="3354"/>
                    <a:pt x="801" y="3354"/>
                  </a:cubicBezTo>
                  <a:cubicBezTo>
                    <a:pt x="773" y="3311"/>
                    <a:pt x="739" y="3281"/>
                    <a:pt x="718" y="3233"/>
                  </a:cubicBezTo>
                  <a:cubicBezTo>
                    <a:pt x="706" y="3206"/>
                    <a:pt x="701" y="3165"/>
                    <a:pt x="671" y="3150"/>
                  </a:cubicBezTo>
                  <a:cubicBezTo>
                    <a:pt x="605" y="3116"/>
                    <a:pt x="547" y="3081"/>
                    <a:pt x="504" y="3020"/>
                  </a:cubicBezTo>
                  <a:cubicBezTo>
                    <a:pt x="490" y="2947"/>
                    <a:pt x="502" y="2986"/>
                    <a:pt x="458" y="2899"/>
                  </a:cubicBezTo>
                  <a:cubicBezTo>
                    <a:pt x="452" y="2887"/>
                    <a:pt x="439" y="2862"/>
                    <a:pt x="439" y="2862"/>
                  </a:cubicBezTo>
                  <a:cubicBezTo>
                    <a:pt x="428" y="2815"/>
                    <a:pt x="415" y="2769"/>
                    <a:pt x="402" y="2722"/>
                  </a:cubicBezTo>
                  <a:cubicBezTo>
                    <a:pt x="395" y="2697"/>
                    <a:pt x="383" y="2648"/>
                    <a:pt x="383" y="2648"/>
                  </a:cubicBezTo>
                  <a:cubicBezTo>
                    <a:pt x="384" y="2584"/>
                    <a:pt x="318" y="2120"/>
                    <a:pt x="439" y="1942"/>
                  </a:cubicBezTo>
                  <a:cubicBezTo>
                    <a:pt x="445" y="1923"/>
                    <a:pt x="447" y="1902"/>
                    <a:pt x="458" y="1886"/>
                  </a:cubicBezTo>
                  <a:cubicBezTo>
                    <a:pt x="470" y="1867"/>
                    <a:pt x="495" y="1830"/>
                    <a:pt x="495" y="1830"/>
                  </a:cubicBezTo>
                  <a:cubicBezTo>
                    <a:pt x="506" y="1775"/>
                    <a:pt x="539" y="1713"/>
                    <a:pt x="578" y="1672"/>
                  </a:cubicBezTo>
                  <a:cubicBezTo>
                    <a:pt x="589" y="1641"/>
                    <a:pt x="597" y="1617"/>
                    <a:pt x="616" y="1589"/>
                  </a:cubicBezTo>
                  <a:cubicBezTo>
                    <a:pt x="638" y="1520"/>
                    <a:pt x="620" y="1547"/>
                    <a:pt x="662" y="1505"/>
                  </a:cubicBezTo>
                  <a:cubicBezTo>
                    <a:pt x="678" y="1456"/>
                    <a:pt x="666" y="1485"/>
                    <a:pt x="708" y="1422"/>
                  </a:cubicBezTo>
                  <a:cubicBezTo>
                    <a:pt x="721" y="1403"/>
                    <a:pt x="764" y="1384"/>
                    <a:pt x="764" y="1384"/>
                  </a:cubicBezTo>
                  <a:cubicBezTo>
                    <a:pt x="786" y="1353"/>
                    <a:pt x="816" y="1340"/>
                    <a:pt x="839" y="1310"/>
                  </a:cubicBezTo>
                  <a:cubicBezTo>
                    <a:pt x="853" y="1292"/>
                    <a:pt x="864" y="1273"/>
                    <a:pt x="876" y="1254"/>
                  </a:cubicBezTo>
                  <a:cubicBezTo>
                    <a:pt x="882" y="1245"/>
                    <a:pt x="894" y="1226"/>
                    <a:pt x="894" y="1226"/>
                  </a:cubicBezTo>
                  <a:cubicBezTo>
                    <a:pt x="775" y="1187"/>
                    <a:pt x="787" y="1198"/>
                    <a:pt x="616" y="1189"/>
                  </a:cubicBezTo>
                  <a:cubicBezTo>
                    <a:pt x="560" y="1171"/>
                    <a:pt x="606" y="1161"/>
                    <a:pt x="551" y="1143"/>
                  </a:cubicBezTo>
                  <a:cubicBezTo>
                    <a:pt x="499" y="1108"/>
                    <a:pt x="436" y="1103"/>
                    <a:pt x="383" y="1069"/>
                  </a:cubicBezTo>
                  <a:cubicBezTo>
                    <a:pt x="340" y="1002"/>
                    <a:pt x="397" y="1076"/>
                    <a:pt x="328" y="1031"/>
                  </a:cubicBezTo>
                  <a:cubicBezTo>
                    <a:pt x="319" y="1025"/>
                    <a:pt x="316" y="1012"/>
                    <a:pt x="309" y="1004"/>
                  </a:cubicBezTo>
                  <a:cubicBezTo>
                    <a:pt x="275" y="966"/>
                    <a:pt x="222" y="902"/>
                    <a:pt x="179" y="873"/>
                  </a:cubicBezTo>
                  <a:cubicBezTo>
                    <a:pt x="128" y="800"/>
                    <a:pt x="187" y="890"/>
                    <a:pt x="151" y="818"/>
                  </a:cubicBezTo>
                  <a:cubicBezTo>
                    <a:pt x="133" y="783"/>
                    <a:pt x="130" y="794"/>
                    <a:pt x="105" y="762"/>
                  </a:cubicBezTo>
                  <a:cubicBezTo>
                    <a:pt x="91" y="744"/>
                    <a:pt x="67" y="706"/>
                    <a:pt x="67" y="706"/>
                  </a:cubicBezTo>
                  <a:cubicBezTo>
                    <a:pt x="52" y="660"/>
                    <a:pt x="58" y="617"/>
                    <a:pt x="30" y="576"/>
                  </a:cubicBezTo>
                  <a:cubicBezTo>
                    <a:pt x="0" y="484"/>
                    <a:pt x="29" y="382"/>
                    <a:pt x="95" y="316"/>
                  </a:cubicBezTo>
                  <a:cubicBezTo>
                    <a:pt x="114" y="263"/>
                    <a:pt x="135" y="215"/>
                    <a:pt x="197" y="195"/>
                  </a:cubicBezTo>
                  <a:cubicBezTo>
                    <a:pt x="216" y="189"/>
                    <a:pt x="253" y="177"/>
                    <a:pt x="253" y="177"/>
                  </a:cubicBezTo>
                  <a:cubicBezTo>
                    <a:pt x="365" y="182"/>
                    <a:pt x="461" y="188"/>
                    <a:pt x="569" y="205"/>
                  </a:cubicBezTo>
                  <a:cubicBezTo>
                    <a:pt x="578" y="208"/>
                    <a:pt x="587" y="212"/>
                    <a:pt x="597" y="214"/>
                  </a:cubicBezTo>
                  <a:cubicBezTo>
                    <a:pt x="615" y="218"/>
                    <a:pt x="635" y="218"/>
                    <a:pt x="653" y="223"/>
                  </a:cubicBezTo>
                  <a:cubicBezTo>
                    <a:pt x="696" y="236"/>
                    <a:pt x="738" y="262"/>
                    <a:pt x="783" y="270"/>
                  </a:cubicBezTo>
                  <a:cubicBezTo>
                    <a:pt x="857" y="283"/>
                    <a:pt x="1011" y="286"/>
                    <a:pt x="1061" y="288"/>
                  </a:cubicBezTo>
                  <a:cubicBezTo>
                    <a:pt x="1093" y="312"/>
                    <a:pt x="1122" y="322"/>
                    <a:pt x="1154" y="344"/>
                  </a:cubicBezTo>
                  <a:cubicBezTo>
                    <a:pt x="1186" y="391"/>
                    <a:pt x="1163" y="365"/>
                    <a:pt x="1229" y="409"/>
                  </a:cubicBezTo>
                  <a:cubicBezTo>
                    <a:pt x="1238" y="415"/>
                    <a:pt x="1257" y="428"/>
                    <a:pt x="1257" y="428"/>
                  </a:cubicBezTo>
                  <a:cubicBezTo>
                    <a:pt x="1303" y="425"/>
                    <a:pt x="1350" y="422"/>
                    <a:pt x="1396" y="418"/>
                  </a:cubicBezTo>
                  <a:cubicBezTo>
                    <a:pt x="1418" y="416"/>
                    <a:pt x="1444" y="422"/>
                    <a:pt x="1461" y="409"/>
                  </a:cubicBezTo>
                  <a:cubicBezTo>
                    <a:pt x="1477" y="397"/>
                    <a:pt x="1474" y="372"/>
                    <a:pt x="1480" y="353"/>
                  </a:cubicBezTo>
                  <a:cubicBezTo>
                    <a:pt x="1495" y="308"/>
                    <a:pt x="1563" y="227"/>
                    <a:pt x="1591" y="186"/>
                  </a:cubicBezTo>
                  <a:cubicBezTo>
                    <a:pt x="1610" y="129"/>
                    <a:pt x="1622" y="43"/>
                    <a:pt x="1665" y="0"/>
                  </a:cubicBezTo>
                  <a:lnTo>
                    <a:pt x="3310" y="781"/>
                  </a:lnTo>
                  <a:cubicBezTo>
                    <a:pt x="3310" y="781"/>
                    <a:pt x="3300" y="799"/>
                    <a:pt x="3300" y="799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19200" y="2400480"/>
              <a:ext cx="1825560" cy="1226880"/>
            </a:xfrm>
            <a:custGeom>
              <a:avLst/>
              <a:gdLst/>
              <a:ahLst/>
              <a:rect l="l" t="t" r="r" b="b"/>
              <a:pathLst>
                <a:path w="1150" h="773">
                  <a:moveTo>
                    <a:pt x="1150" y="0"/>
                  </a:moveTo>
                  <a:cubicBezTo>
                    <a:pt x="1047" y="27"/>
                    <a:pt x="721" y="31"/>
                    <a:pt x="529" y="160"/>
                  </a:cubicBezTo>
                  <a:cubicBezTo>
                    <a:pt x="337" y="289"/>
                    <a:pt x="110" y="645"/>
                    <a:pt x="0" y="773"/>
                  </a:cubicBezTo>
                </a:path>
              </a:pathLst>
            </a:custGeom>
            <a:noFill/>
            <a:ln w="63360">
              <a:solidFill>
                <a:srgbClr val="7bc143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952800" y="2639880"/>
            <a:ext cx="3376800" cy="1992600"/>
            <a:chOff x="3952800" y="2639880"/>
            <a:chExt cx="3376800" cy="1992600"/>
          </a:xfrm>
        </p:grpSpPr>
        <p:sp>
          <p:nvSpPr>
            <p:cNvPr id="184" name=""/>
            <p:cNvSpPr/>
            <p:nvPr/>
          </p:nvSpPr>
          <p:spPr>
            <a:xfrm>
              <a:off x="5292720" y="2736720"/>
              <a:ext cx="1004760" cy="1052640"/>
            </a:xfrm>
            <a:custGeom>
              <a:avLst/>
              <a:gdLst/>
              <a:ahLst/>
              <a:rect l="l" t="t" r="r" b="b"/>
              <a:pathLst>
                <a:path w="633" h="663">
                  <a:moveTo>
                    <a:pt x="633" y="78"/>
                  </a:moveTo>
                  <a:cubicBezTo>
                    <a:pt x="570" y="83"/>
                    <a:pt x="357" y="0"/>
                    <a:pt x="252" y="97"/>
                  </a:cubicBezTo>
                  <a:cubicBezTo>
                    <a:pt x="147" y="194"/>
                    <a:pt x="53" y="545"/>
                    <a:pt x="0" y="663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52800" y="2639880"/>
              <a:ext cx="687600" cy="1128960"/>
            </a:xfrm>
            <a:custGeom>
              <a:avLst/>
              <a:gdLst/>
              <a:ahLst/>
              <a:rect l="l" t="t" r="r" b="b"/>
              <a:pathLst>
                <a:path w="433" h="711">
                  <a:moveTo>
                    <a:pt x="433" y="711"/>
                  </a:moveTo>
                  <a:cubicBezTo>
                    <a:pt x="420" y="613"/>
                    <a:pt x="425" y="239"/>
                    <a:pt x="353" y="121"/>
                  </a:cubicBezTo>
                  <a:cubicBezTo>
                    <a:pt x="281" y="3"/>
                    <a:pt x="74" y="25"/>
                    <a:pt x="0" y="0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30680" y="3651120"/>
              <a:ext cx="619200" cy="552600"/>
            </a:xfrm>
            <a:custGeom>
              <a:avLst/>
              <a:gdLst/>
              <a:ahLst/>
              <a:rect l="l" t="t" r="r" b="b"/>
              <a:pathLst>
                <a:path w="390" h="348">
                  <a:moveTo>
                    <a:pt x="0" y="153"/>
                  </a:moveTo>
                  <a:cubicBezTo>
                    <a:pt x="45" y="133"/>
                    <a:pt x="204" y="0"/>
                    <a:pt x="269" y="32"/>
                  </a:cubicBezTo>
                  <a:cubicBezTo>
                    <a:pt x="334" y="64"/>
                    <a:pt x="365" y="282"/>
                    <a:pt x="390" y="348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15200" y="3760920"/>
              <a:ext cx="914400" cy="871560"/>
            </a:xfrm>
            <a:custGeom>
              <a:avLst/>
              <a:gdLst/>
              <a:ahLst/>
              <a:rect l="l" t="t" r="r" b="b"/>
              <a:pathLst>
                <a:path w="576" h="549">
                  <a:moveTo>
                    <a:pt x="0" y="502"/>
                  </a:moveTo>
                  <a:cubicBezTo>
                    <a:pt x="48" y="496"/>
                    <a:pt x="192" y="549"/>
                    <a:pt x="288" y="465"/>
                  </a:cubicBezTo>
                  <a:cubicBezTo>
                    <a:pt x="384" y="381"/>
                    <a:pt x="516" y="97"/>
                    <a:pt x="576" y="0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aettu ymmärrys: määritelm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28320" indent="-328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hden ihmisen välillä on jaettu  ymmärrys tietystä aiheesta silloin, kun molemmat osaavat selittää mitä toinen ajattelee asiasta ja miks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ääritelmän voi laajentaa ryhmään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512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kainen osaa selittää mitä ajatuksia ja päätelmiä ryhmässä on asia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3800" indent="-24408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ätä ei tarvitse tietää yksilötasol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512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äytännössä tarvitaan yhdessä tehty kirjallinen kuvaus jaetusta ymmärryksest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512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akohtainen testi: Onko minun ajatteluni kuvattu kirjallisessa kuvauksessa kaikilta olennaisilta osiltaan? Onko se käsitelty asianmukaisesti päätelmiä kirjoitettaes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5906880" cy="59644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aettu ymmärrys: kaavio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5876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Pohjola MV et al: Food and Chemical Toxicology. 2011. In pr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voin arviointi erityistilanteissa: periaatte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ti avataan Opasnetiin sivu, jota käytetään ensisijaisena viestintäkanava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vulle sovitaan ylläpitäjä, joka vastaa siitä että sivu pysyy teknisesti ja luettavuudeltaan kunnossa ja sisältää kaiken ylläpitäjälle tuleen tied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stuuviranomaiset laittavat (laitattavat) kaiken tietonsa sivulle luettavaks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leisölle annetaan mahdollisuus tuoda oma tietämyksensä sivul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rvittaessa pääsivu suojataan ja keskustelut käydään keskustelusivu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Opasnet-verkkotyötil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184320"/>
            <a:ext cx="914400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Opasnetin muokkaustil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6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ärkeimmät wikin muotoilusäännö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vaa erityistilannesivu pikaisesti vain tekstin kopiointia ja tallennusta varte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ppalevaihto: kaksi rivivaihtoa peräkkä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=Otsikko=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Numeroimaton 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 Numeroitu 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Kappaleen sisenn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’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havointi’’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ki toiseen Opasnet-sivuun: [[Sivun nimi]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ki www-sivuun: [http://www.sivusto.fi/main.html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Opasnetin kommentointikentt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6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4:27:14Z</dcterms:created>
  <dc:creator>Jouni Tuomisto</dc:creator>
  <dc:description/>
  <dc:language>en-US</dc:language>
  <cp:lastModifiedBy>Jouni Tuomisto</cp:lastModifiedBy>
  <dcterms:modified xsi:type="dcterms:W3CDTF">2011-11-01T09:50:37Z</dcterms:modified>
  <cp:revision>19</cp:revision>
  <dc:subject/>
  <dc:title>Avoin mallitus. Esimerkkinä liikenteen muutosten päästövaikutukset ja sairastuvuus</dc:title>
</cp:coreProperties>
</file>